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EC2C6-E403-40C2-980B-5F39D828BD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E2D68-4521-45A5-91E9-EE76CD5C3F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0C668-1C85-411D-A41F-5F47AB0D41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32CD3-3989-41F3-943B-FFD1590DFF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68E-BD24-4145-B7A8-FDB1A19A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173-BC61-4419-9BB5-16D5BFBA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DACE-37A8-4784-9211-FC8C2465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5B5-F2D2-43F9-A49E-41B9B905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CF9-E1F9-4E2D-B669-AE18ECAF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B0D-E410-4A53-948C-E3D47F07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A40-044F-4062-AA2D-8D65771F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E88D-CF54-462E-A4B8-6754AFD0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1E0-E692-4938-BE8B-D24A1A26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3435-EBB7-4986-9D0B-ED091B90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97F-ED32-4C25-A515-E6A33861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A39-A03A-46FE-8902-4BF1692C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9D89B5-F304-4678-AA85-C814EBBF9E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6400" y="1708200"/>
            <a:ext cx="800100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Просто знать - ещё не всё, знания надо уметь использовать»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. В. Гёте          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720" y="636120"/>
            <a:ext cx="907128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менные реакции 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5480" y="1814040"/>
            <a:ext cx="8748720" cy="31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→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=СН-СН=С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2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, какого ученого носит эта реакция? Какое вещество получено этим методом?  Назовите е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4133520" y="4708440"/>
            <a:ext cx="37742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ебедева, кауч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922320"/>
            <a:ext cx="906948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менные реакции 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896760" y="1922400"/>
            <a:ext cx="87156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 ≡ СН   + 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  →  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С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, какого ученого носит эта реакция? Какое вещество получено с помощью этой реакции? Назовите е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2611440" y="4637160"/>
            <a:ext cx="6715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учерова, альдегиды, кет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1064880"/>
            <a:ext cx="9069480" cy="7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менные реакции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68400" y="1636560"/>
            <a:ext cx="8143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6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→   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, какого ученого носит эта реакция? Какие вещества получены с помощью этой реакц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новалова, нитро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708120"/>
            <a:ext cx="906948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менные реакции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968400" y="1779480"/>
            <a:ext cx="8286840" cy="28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OONa+ NaOH → 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, какого ученого носит эта реакция? Какие вещества могут быть получены с помощью этой реакц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3704760" y="4565520"/>
            <a:ext cx="47757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юма, предельные У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779400"/>
            <a:ext cx="906948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менные реакции -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682560" y="1779480"/>
            <a:ext cx="939816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Эл.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N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2 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→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, какого ученого носит эта реакц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вещества были получены с помощью    этой реакции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4267800" y="5494320"/>
            <a:ext cx="33796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льбе, алк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921960"/>
            <a:ext cx="90694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менные реакции -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896760" y="1708200"/>
            <a:ext cx="8715600" cy="24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СН ≡ СН → 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6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, какого ученого носит эта реакция? Какое вещество было получено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щью этой реак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2850120" y="4494240"/>
            <a:ext cx="58467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елинского, бензол, ар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36520"/>
            <a:ext cx="90691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азка – ложь, да в ней намек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1325520" y="2565360"/>
            <a:ext cx="771516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шите уравнение реакции, о которой говорится в этой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ое правило здесь описыва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то отнял Бром у ЦеАш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Схема 2" descr=""/>
          <p:cNvPicPr/>
          <p:nvPr/>
        </p:nvPicPr>
        <p:blipFill>
          <a:blip r:embed="rId1"/>
          <a:stretch/>
        </p:blipFill>
        <p:spPr>
          <a:xfrm>
            <a:off x="-12600" y="774720"/>
            <a:ext cx="9126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136520"/>
            <a:ext cx="90691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ие загад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5" descr=""/>
          <p:cNvPicPr/>
          <p:nvPr/>
        </p:nvPicPr>
        <p:blipFill>
          <a:blip r:embed="rId2"/>
          <a:stretch/>
        </p:blipFill>
        <p:spPr>
          <a:xfrm>
            <a:off x="433440" y="2266920"/>
            <a:ext cx="907092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2640" y="779400"/>
            <a:ext cx="721512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нать и уметь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896760" y="1444680"/>
            <a:ext cx="8286840" cy="46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уметь определять строение вещества (виды связей, типы гибридизации атома углерода, пространственное строение молекул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знать основы номенклатуры органических веще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писать уравнения реакция, отражающие свойства и способы получения веще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осуществлять цепочки превращений, отражающие взаимосвязь различных классов органических веще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решать расчетные задачи по уравнениям реакций и на выведение молекулярной форм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18507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и характерные свойства У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хема 2" descr=""/>
          <p:cNvPicPr/>
          <p:nvPr/>
        </p:nvPicPr>
        <p:blipFill>
          <a:blip r:embed="rId1"/>
          <a:stretch/>
        </p:blipFill>
        <p:spPr>
          <a:xfrm>
            <a:off x="-12600" y="774720"/>
            <a:ext cx="9126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200" y="9219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абораторная работа «Моделирование молекул У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325520" y="2565360"/>
            <a:ext cx="7715160" cy="24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ставить модели указанных У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азвать виды химической связи (сколько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яз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ип гибридизации атомов угле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орма молек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Могут ли быть геометрические изоме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5080" y="707760"/>
            <a:ext cx="906948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Третий лишн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54240" y="1494000"/>
          <a:ext cx="7929360" cy="5014800"/>
        </p:xfrm>
        <a:graphic>
          <a:graphicData uri="http://schemas.openxmlformats.org/drawingml/2006/table">
            <a:tbl>
              <a:tblPr/>
              <a:tblGrid>
                <a:gridCol w="2643120"/>
                <a:gridCol w="2643120"/>
                <a:gridCol w="2643120"/>
              </a:tblGrid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2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2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2f7"/>
                    </a:solidFill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и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2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и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2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та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2f7"/>
                    </a:solidFill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2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2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2f7"/>
                    </a:solidFill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</a:t>
                      </a:r>
                      <a:r>
                        <a:rPr b="1" lang="ru-RU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2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2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2f7"/>
                    </a:solidFill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илпроп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2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2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2f7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тен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2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-диметилциклопроп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2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тен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2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2240" y="2065320"/>
            <a:ext cx="842652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ртуальная лаборатория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Качественные реакции У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6361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менные реакции 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68400" y="1636560"/>
            <a:ext cx="8143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, какого ученого носит эта реак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вещества были получены с помощью этой реак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1564560" y="5208480"/>
            <a:ext cx="5209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юрца,  предельные У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4:40:48Z</dcterms:created>
  <dc:creator/>
  <dc:description/>
  <dc:language>en-US</dc:language>
  <cp:lastModifiedBy>Марина</cp:lastModifiedBy>
  <dcterms:modified xsi:type="dcterms:W3CDTF">2022-12-03T19:57:35Z</dcterms:modified>
  <cp:revision>32</cp:revision>
  <dc:subject/>
  <dc:title>Слайд 1</dc:title>
</cp:coreProperties>
</file>